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E3FB-503E-4E61-BD51-C570DF5A4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B15-0FD9-4C1F-B1C6-2BA16DC4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9CA-B073-4893-B2C3-7E187677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B53-3FEF-4F5F-BF41-EF802B39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FF8-50C5-4BA5-B9D7-4BD269C0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AE14-0731-4726-B23D-C90DAF18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BF92-18CB-40FA-AE59-4832FD4B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CF25-2C00-4190-A218-3F6F6824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971B-67D1-49C0-88D3-F82C9EB7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6F5B-8A52-4294-86E5-58A618E3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5D40-E44C-43BB-AE8C-D4D14491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3171-0797-4DC8-8F91-DF1BF803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B73-E29F-44DF-B320-84BB9D2B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2D33-B7DF-47F3-8A4E-8D77400B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9721-7D3B-4D40-80EB-FF7C2B34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9FBB-3DBD-40B7-97B6-9463EF2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3D88-C0DB-435A-A841-59278444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9635-30A2-4AF8-9AF6-F37CDAF7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680-B5D1-4CE4-A1AD-1E7660CE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DEF-3EB8-4A5E-9B26-644DCBCA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942-B79D-4B68-8507-6BB2375B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F1E-F8E7-42D6-BD2A-B3F9FBD1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EF2-E18B-419D-9418-DD1C4A70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2D3-C96A-48DC-A3F9-4E9574B5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C37-BB30-4AD0-A00F-F92FBFE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0ECC-036F-483B-91E6-3D4A11736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5BA9-BFC9-4C54-BCE9-9090B3495A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enetic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udy of genes and the inheritance of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u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genes make a mistake mixing and produce new or different traits in the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9" descr="is?986923577224"/>
          <p:cNvPicPr/>
          <p:nvPr/>
        </p:nvPicPr>
        <p:blipFill>
          <a:blip r:embed="rId1"/>
          <a:stretch/>
        </p:blipFill>
        <p:spPr>
          <a:xfrm>
            <a:off x="685800" y="1752480"/>
            <a:ext cx="358128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:  TT, Tt, or 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MPj03095240000[1]"/>
          <p:cNvPicPr/>
          <p:nvPr/>
        </p:nvPicPr>
        <p:blipFill>
          <a:blip r:embed="rId1"/>
          <a:stretch/>
        </p:blipFill>
        <p:spPr>
          <a:xfrm>
            <a:off x="685800" y="1600200"/>
            <a:ext cx="3314880" cy="2198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066680" y="43434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We flipped coins to determine the genotype of our critters and pupp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e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mina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648320" y="1828800"/>
            <a:ext cx="3733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or 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-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unnett Squ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om and dad’s genotypes to determine the possible traits of their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05520" y="2666880"/>
          <a:ext cx="3581280" cy="346392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the traits determined by reading the genoty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F = black f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lack f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r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cochese"/>
          <p:cNvPicPr/>
          <p:nvPr/>
        </p:nvPicPr>
        <p:blipFill>
          <a:blip r:embed="rId1"/>
          <a:stretch/>
        </p:blipFill>
        <p:spPr>
          <a:xfrm>
            <a:off x="4876920" y="1447920"/>
            <a:ext cx="3733560" cy="4647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features you exhibit physic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your look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ye color -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MCj04038930000[1]"/>
          <p:cNvPicPr/>
          <p:nvPr/>
        </p:nvPicPr>
        <p:blipFill>
          <a:blip r:embed="rId1"/>
          <a:stretch/>
        </p:blipFill>
        <p:spPr>
          <a:xfrm>
            <a:off x="5289480" y="2438280"/>
            <a:ext cx="278784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i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ferent versions of a character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blue, green, and brown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MCDD00650_0000[1]"/>
          <p:cNvPicPr/>
          <p:nvPr/>
        </p:nvPicPr>
        <p:blipFill>
          <a:blip r:embed="rId1"/>
          <a:stretch/>
        </p:blipFill>
        <p:spPr>
          <a:xfrm>
            <a:off x="6629400" y="4114800"/>
            <a:ext cx="1468440" cy="15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j04038930000[1]"/>
          <p:cNvPicPr/>
          <p:nvPr/>
        </p:nvPicPr>
        <p:blipFill>
          <a:blip r:embed="rId2"/>
          <a:stretch/>
        </p:blipFill>
        <p:spPr>
          <a:xfrm>
            <a:off x="4038480" y="42670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j04039970000[1]"/>
          <p:cNvPicPr/>
          <p:nvPr/>
        </p:nvPicPr>
        <p:blipFill>
          <a:blip r:embed="rId3"/>
          <a:stretch/>
        </p:blipFill>
        <p:spPr>
          <a:xfrm>
            <a:off x="1219320" y="4191120"/>
            <a:ext cx="1523880" cy="1519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herit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traits are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MPj03999280000[1]"/>
          <p:cNvPicPr/>
          <p:nvPr/>
        </p:nvPicPr>
        <p:blipFill>
          <a:blip r:embed="rId1"/>
          <a:stretch/>
        </p:blipFill>
        <p:spPr>
          <a:xfrm>
            <a:off x="304920" y="2392200"/>
            <a:ext cx="4495680" cy="347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 of information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chemicals called D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MCj03519580000[1]"/>
          <p:cNvPicPr/>
          <p:nvPr/>
        </p:nvPicPr>
        <p:blipFill>
          <a:blip r:embed="rId1"/>
          <a:stretch/>
        </p:blipFill>
        <p:spPr>
          <a:xfrm>
            <a:off x="1371600" y="2209680"/>
            <a:ext cx="187020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tic Disea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assed on through genes from a parent to the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rfan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Individual is tall, has long arms and le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member - JO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Cj04114640000[1]"/>
          <p:cNvPicPr/>
          <p:nvPr/>
        </p:nvPicPr>
        <p:blipFill>
          <a:blip r:embed="rId1"/>
          <a:stretch/>
        </p:blipFill>
        <p:spPr>
          <a:xfrm>
            <a:off x="944640" y="1981080"/>
            <a:ext cx="195084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p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Sperm fertilizes an egg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exu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1 organism copies itself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MCj02811420000[1]"/>
          <p:cNvPicPr/>
          <p:nvPr/>
        </p:nvPicPr>
        <p:blipFill>
          <a:blip r:embed="rId1"/>
          <a:stretch/>
        </p:blipFill>
        <p:spPr>
          <a:xfrm>
            <a:off x="1278000" y="1371600"/>
            <a:ext cx="2836800" cy="241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Pj01826480000[1]"/>
          <p:cNvPicPr/>
          <p:nvPr/>
        </p:nvPicPr>
        <p:blipFill>
          <a:blip r:embed="rId2"/>
          <a:stretch/>
        </p:blipFill>
        <p:spPr>
          <a:xfrm>
            <a:off x="1066680" y="4089240"/>
            <a:ext cx="3175200" cy="21384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rtiliz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a sperm unites with an eg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9" descr="is?376913075754"/>
          <p:cNvPicPr/>
          <p:nvPr/>
        </p:nvPicPr>
        <p:blipFill>
          <a:blip r:embed="rId1"/>
          <a:stretch/>
        </p:blipFill>
        <p:spPr>
          <a:xfrm>
            <a:off x="4114800" y="19051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ffspring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name for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male and female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9" descr="MPj04008320000[1]"/>
          <p:cNvPicPr/>
          <p:nvPr/>
        </p:nvPicPr>
        <p:blipFill>
          <a:blip r:embed="rId1"/>
          <a:stretch/>
        </p:blipFill>
        <p:spPr>
          <a:xfrm>
            <a:off x="434340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12:41Z</dcterms:created>
  <dc:creator>PALO</dc:creator>
  <dc:description/>
  <dc:language>en-US</dc:language>
  <cp:lastModifiedBy>LEGION2</cp:lastModifiedBy>
  <dcterms:modified xsi:type="dcterms:W3CDTF">2016-01-12T11:07:44Z</dcterms:modified>
  <cp:revision>25</cp:revision>
  <dc:subject/>
  <dc:title>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